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BBB3-7737-4EC2-B911-C7094F040E2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and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nny C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 an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nny C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sunsets r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e sky bl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sunsets 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atory: How Sound Trav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I: Does sound travel through paper, plastic, metal, and wa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II: Which medium does sound travel  best in: air, water, or w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III: Do sound waves have to have a medium to travel throug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atory: How Sound Tra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oes sound travel through paper, plastic, metal, and wa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Which medium does sound travel  best in: air, water, or wo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Do sound waves have to have a medium to travel throug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nst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ht and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: After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 Demo + mar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w Whistle/Rec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ht an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: After-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 Wave Demo + mar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w Whistle/Rec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8591-D1C5-4BB8-AB71-18FB3948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BAD5-9BF9-49FD-9039-765DCDC3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7E5F-E304-4685-AA39-BFE88AB8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9AED-BB7C-49E7-8E68-AA88AF2D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7059-B9FD-4891-B278-99412338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4F34-2B89-486E-9D40-FE5012D4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FAB9-653E-481E-BF7F-CFDBF25F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89C8-9774-413A-86F4-49C91EA5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3D7B-AE0D-4A7A-87C1-41CA7425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0FA-0CB5-4CDA-8776-E90BB72A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BC2-6A6D-4472-AF4E-392ABA4A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195B-ACBA-4722-8436-0B144A8B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0115-2E68-49C2-8193-0F49E3506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clipart.com/en/close-up?o=639803&amp;memlevel=C&amp;a=c&amp;q=ear&amp;s=91&amp;e=120&amp;show=all&amp;c=&amp;cid=&amp;findincat=&amp;g=&amp;cc=&amp;page=4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Sylfaen"/>
              </a:rPr>
              <a:t>Sound and Ligh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Sylfaen"/>
              </a:rPr>
              <a:t>Jenny C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bd04924_"/>
          <p:cNvPicPr/>
          <p:nvPr/>
        </p:nvPicPr>
        <p:blipFill>
          <a:blip r:embed="rId1"/>
          <a:stretch/>
        </p:blipFill>
        <p:spPr>
          <a:xfrm>
            <a:off x="6324480" y="3048120"/>
            <a:ext cx="2525760" cy="3406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an7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457200"/>
            <a:ext cx="2028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Suns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y is the sky blu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5410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y are sunsets red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2666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a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ylfaen"/>
              </a:rPr>
              <a:t>Laboratory: How Sound Tra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lfaen"/>
              </a:rPr>
              <a:t>Part I:</a:t>
            </a: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 Does sound travel through paper, plastic, metal, and w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lfaen"/>
              </a:rPr>
              <a:t>Part II:</a:t>
            </a: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 Which medium does sound travel  best in: air, water, or woo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lfaen"/>
              </a:rPr>
              <a:t>Part III:</a:t>
            </a: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 Do sound waves have to have a medium to travel throug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15"/>
          <p:cNvSpPr/>
          <p:nvPr/>
        </p:nvSpPr>
        <p:spPr>
          <a:xfrm>
            <a:off x="914400" y="533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6"/>
          <p:cNvSpPr/>
          <p:nvPr/>
        </p:nvSpPr>
        <p:spPr>
          <a:xfrm>
            <a:off x="914400" y="6094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117"/>
          <p:cNvGraphicFramePr/>
          <p:nvPr/>
        </p:nvGraphicFramePr>
        <p:xfrm>
          <a:off x="1411200" y="438120"/>
          <a:ext cx="6321600" cy="59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1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438120"/>
                    <a:ext cx="6321600" cy="59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1523880" y="533520"/>
          <a:ext cx="623088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533520"/>
                    <a:ext cx="6230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Demonstr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Sight and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Heart: After-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Sound Wave Demo + mar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Straw Whistle/Rec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S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4"/>
          <p:cNvSpPr/>
          <p:nvPr/>
        </p:nvSpPr>
        <p:spPr>
          <a:xfrm flipV="1">
            <a:off x="0" y="990360"/>
            <a:ext cx="990720" cy="106668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990720" y="990720"/>
            <a:ext cx="228600" cy="91440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6"/>
          <p:cNvSpPr/>
          <p:nvPr/>
        </p:nvSpPr>
        <p:spPr>
          <a:xfrm flipV="1">
            <a:off x="1219320" y="0"/>
            <a:ext cx="1066680" cy="190512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7"/>
          <p:cNvSpPr/>
          <p:nvPr/>
        </p:nvSpPr>
        <p:spPr>
          <a:xfrm>
            <a:off x="2286000" y="0"/>
            <a:ext cx="1523880" cy="68580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8"/>
          <p:cNvSpPr/>
          <p:nvPr/>
        </p:nvSpPr>
        <p:spPr>
          <a:xfrm flipV="1">
            <a:off x="3809880" y="533160"/>
            <a:ext cx="2667240" cy="15228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6477120" y="533520"/>
            <a:ext cx="1904760" cy="182880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4"/>
          <p:cNvSpPr/>
          <p:nvPr/>
        </p:nvSpPr>
        <p:spPr>
          <a:xfrm flipH="1">
            <a:off x="7314840" y="2362320"/>
            <a:ext cx="1066680" cy="76176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7315200" y="3124080"/>
            <a:ext cx="1219320" cy="167652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6857640" y="4800600"/>
            <a:ext cx="1676520" cy="76212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6858000" y="5562720"/>
            <a:ext cx="380880" cy="129528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02:36:23Z</dcterms:created>
  <dc:creator>Jenny</dc:creator>
  <dc:description/>
  <dc:language>en-US</dc:language>
  <cp:lastModifiedBy>RomaK</cp:lastModifiedBy>
  <dcterms:modified xsi:type="dcterms:W3CDTF">2015-09-03T12:36:59Z</dcterms:modified>
  <cp:revision>15</cp:revision>
  <dc:subject/>
  <dc:title>Sound and Light</dc:title>
</cp:coreProperties>
</file>